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DFE-7F2F-4AB8-9046-53A06B24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3D3-BC1D-4167-BFAE-5BAAF2B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744-76A0-40E5-87CF-D321A693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EB2-7748-4914-B4E5-6908B826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7FF-AF86-4478-8FDC-5DF1A55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1B6-F4EA-4075-9E19-02A274EC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001-4E6F-4F6A-9124-3E0C6ACC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F81-EE48-44B9-9D8A-656BC92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0B6-A499-4FAE-9597-07CC22C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945-2E69-433E-9F66-4F68DD2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4DC-167D-4338-8C03-CE3425D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2C2-149D-4D8B-8E9A-600153A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B67-52B3-431E-8992-76ED9C21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an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SCOS: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Assess, describe, and explain adaptations affecting survival and reproductive success of Viruses and 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: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acteria and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ampling for bacteria in common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d of DNA or RNA surrounded by a protein coat (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ophage is a virus that infects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0160" y="2128680"/>
            <a:ext cx="869292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74240" y="17892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93760" y="1662120"/>
            <a:ext cx="15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bacco Mosa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84880" y="1967040"/>
            <a:ext cx="101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4720" y="2217600"/>
            <a:ext cx="3167280" cy="2059200"/>
            <a:chOff x="504720" y="2217600"/>
            <a:chExt cx="3167280" cy="2059200"/>
          </a:xfrm>
        </p:grpSpPr>
        <p:sp>
          <p:nvSpPr>
            <p:cNvPr id="74" name=""/>
            <p:cNvSpPr/>
            <p:nvPr/>
          </p:nvSpPr>
          <p:spPr>
            <a:xfrm>
              <a:off x="542880" y="2344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720" y="3436920"/>
              <a:ext cx="73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il she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040" y="22176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1160" y="3817800"/>
              <a:ext cx="69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il 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4920" y="2585880"/>
            <a:ext cx="2650680" cy="2783160"/>
            <a:chOff x="6244920" y="2585880"/>
            <a:chExt cx="2650680" cy="2783160"/>
          </a:xfrm>
        </p:grpSpPr>
        <p:sp>
          <p:nvSpPr>
            <p:cNvPr id="79" name=""/>
            <p:cNvSpPr/>
            <p:nvPr/>
          </p:nvSpPr>
          <p:spPr>
            <a:xfrm>
              <a:off x="8316360" y="25858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4920" y="2712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0120" y="471960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4800" y="491004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355720" y="2141640"/>
            <a:ext cx="724680" cy="1094040"/>
            <a:chOff x="5355720" y="2141640"/>
            <a:chExt cx="724680" cy="1094040"/>
          </a:xfrm>
        </p:grpSpPr>
        <p:sp>
          <p:nvSpPr>
            <p:cNvPr id="84" name=""/>
            <p:cNvSpPr/>
            <p:nvPr/>
          </p:nvSpPr>
          <p:spPr>
            <a:xfrm>
              <a:off x="5484240" y="21416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55720" y="277668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ir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ytic and Lysogenic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17720" y="996840"/>
            <a:ext cx="7078680" cy="4672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898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RNA and use it to produc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using the enzyme Reverse Transcrip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their genetic information is copied back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and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ll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Toxins that destroy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e: weakened or Killed viruses are injected into the body (Edward Jen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iotics: compounds that block the growth of bacteria ex. Penicilin (Alexander Flemm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6560" y="2259000"/>
            <a:ext cx="7759800" cy="4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2259000"/>
            <a:ext cx="77598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200" y="2655720"/>
            <a:ext cx="22730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food poi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9560" y="2655720"/>
            <a:ext cx="239508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reptococcus mut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orrelia burgdorf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lmonella enteritid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reptococcus pneumoni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ibrio choler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66040" y="2643120"/>
            <a:ext cx="261288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ular dental hygi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from tick b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tetanus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 food-handling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ing good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 water 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8880" y="23860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6760" y="2386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73240" y="238608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73320" y="2259000"/>
            <a:ext cx="24894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31840"/>
            <a:ext cx="63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on Diseases Caused by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ilization: subjecting to extrem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infectants: chemical solution that kills the path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ng and Preserving Food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68280" y="2259000"/>
            <a:ext cx="6596280" cy="471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8280" y="2259000"/>
            <a:ext cx="659628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2655720"/>
            <a:ext cx="1651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ogenic 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no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pes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xvir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0640" y="2655720"/>
            <a:ext cx="555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52680" y="2643120"/>
            <a:ext cx="1899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r,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iratory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8800" y="238608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of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76680" y="23860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cle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23860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5040" y="2259000"/>
            <a:ext cx="149868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31840"/>
            <a:ext cx="631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on Diseases Caused by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11280" y="149076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82960" y="1866960"/>
            <a:ext cx="1371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should always be found in the body of a sick organism and should not be found in a health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0280" y="1870200"/>
            <a:ext cx="1143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and grown in the laboratory in a pure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2960" y="4118040"/>
            <a:ext cx="12193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urified pathogens are placed in a new host, they should cause the same disease that infected the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8480" y="4116240"/>
            <a:ext cx="13716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y same pathogen should be reisolated from the second host.  And it should be the same as the original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6080" y="1460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960" y="143496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pected pathogen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3160" y="1562040"/>
            <a:ext cx="20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pected 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0640" y="3720960"/>
            <a:ext cx="163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jection of organisms from pur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70680" y="3720960"/>
            <a:ext cx="11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81360" y="31114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1114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08560" y="534672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d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1114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lthy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5760" y="534672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althy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3720" y="280656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spected pathogen grown in pure cul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71440"/>
            <a:ext cx="5076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453520" cy="412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6680" y="2500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3040" y="1916280"/>
            <a:ext cx="89388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440" y="382896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6040" y="4572000"/>
            <a:ext cx="94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2480" y="498492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8320" y="1509840"/>
            <a:ext cx="7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98680" y="1471680"/>
            <a:ext cx="1641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nt That Causes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1760" y="1471680"/>
            <a:ext cx="18162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97160" y="1784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7160" y="1996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97160" y="23223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97160" y="2616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97160" y="28526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7160" y="31910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97160" y="3414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97160" y="3611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97160" y="3865680"/>
            <a:ext cx="1523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leeping sic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97160" y="41590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97160" y="4370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ic dysen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97160" y="4572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stosom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7160" y="47768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tape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97160" y="49910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lete’s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7160" y="52401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g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86280" y="1792440"/>
            <a:ext cx="1854000" cy="3699000"/>
            <a:chOff x="3086280" y="1792440"/>
            <a:chExt cx="1854000" cy="3699000"/>
          </a:xfrm>
        </p:grpSpPr>
        <p:sp>
          <p:nvSpPr>
            <p:cNvPr id="158" name=""/>
            <p:cNvSpPr/>
            <p:nvPr/>
          </p:nvSpPr>
          <p:spPr>
            <a:xfrm>
              <a:off x="3086280" y="17924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hinovir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86280" y="2022480"/>
              <a:ext cx="1523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wo types (A, B), plus subtyp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86280" y="232236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rice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86280" y="259704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myxovir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86280" y="2890800"/>
              <a:ext cx="1523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ycobacterium tuberculo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6280" y="32418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eisseria meningitid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6280" y="344016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Vibrio choler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86280" y="36464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lostridium tet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6280" y="385128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rypanos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86280" y="41972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Plasmod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6280" y="439596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ntamoeba histoly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6280" y="4602240"/>
              <a:ext cx="10666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chistos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6280" y="480384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aenia sagin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6280" y="50166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erfect fu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86280" y="5257800"/>
              <a:ext cx="1854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erfect fu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30720" y="1792440"/>
            <a:ext cx="3759120" cy="3816360"/>
            <a:chOff x="5130720" y="1792440"/>
            <a:chExt cx="3759120" cy="3816360"/>
          </a:xfrm>
        </p:grpSpPr>
        <p:sp>
          <p:nvSpPr>
            <p:cNvPr id="174" name=""/>
            <p:cNvSpPr/>
            <p:nvPr/>
          </p:nvSpPr>
          <p:spPr>
            <a:xfrm>
              <a:off x="5130720" y="1792440"/>
              <a:ext cx="375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30720" y="202248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roplet infection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30720" y="23670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borne; direct 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30720" y="257004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s in air; direct contact with secretions of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30720" y="289548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oplets in air; contaminated milk and dairy pro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0720" y="322416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contact with a 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0720" y="34560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drinking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30720" y="36338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wound; usually puncture wou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0720" y="3851280"/>
              <a:ext cx="22906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read by tsetse f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30720" y="41972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read by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ophe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mosquit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30720" y="44132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drinking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30720" y="460368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eshwater streams and rice padd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30720" y="481320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minated me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5032440"/>
              <a:ext cx="37591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ct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30720" y="5235480"/>
              <a:ext cx="37591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 of hats, combs, or athletic head gear with infected per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87440" y="1471680"/>
            <a:ext cx="934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ogen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71440"/>
            <a:ext cx="6099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s and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28386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&amp;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19-1 in your work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Quiz tomorrow on Bacteria and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 that lack a nucle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kingdoms of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-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bacteria – live in extrem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90840" y="1411200"/>
            <a:ext cx="5475240" cy="42325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076840" y="1328760"/>
            <a:ext cx="4616640" cy="4264200"/>
            <a:chOff x="2076840" y="1328760"/>
            <a:chExt cx="4616640" cy="4264200"/>
          </a:xfrm>
        </p:grpSpPr>
        <p:sp>
          <p:nvSpPr>
            <p:cNvPr id="49" name=""/>
            <p:cNvSpPr/>
            <p:nvPr/>
          </p:nvSpPr>
          <p:spPr>
            <a:xfrm>
              <a:off x="2076840" y="1722600"/>
              <a:ext cx="114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ptidoglyc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70360" y="1509840"/>
              <a:ext cx="71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w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2000" y="1522440"/>
              <a:ext cx="103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ll 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25520" y="132876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62040" y="52912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el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7080" y="5316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1440" y="5253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Structure of a Eubacte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: Cocci (round), Bacillus (rods), &amp; Spirillus (spir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: Gram Positive (stain violet because of thick peptidoglycan wall) Gram Negative (stain red; thin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: no movement, whiplike (flagella), wavelike (cilia), lash, snake or spiral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: cannot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: can make own food and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autotrophs us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autotrophs use inorganic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d by cellular respiration or fer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: nee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: live without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: can live with or without oxgyen. 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and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: the bacteria divides in ha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: Exchange genetic material via a pilus (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e Formation: Endospores are enclosed in thick wall. That remain dormant until favorable conditions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: nutrient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Fixation: convert nitrogen gas into a form plants can 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and Be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up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in our intestines and mak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6:25:41Z</dcterms:created>
  <dc:creator>Perquimans County Schools</dc:creator>
  <dc:description/>
  <dc:language>en-US</dc:language>
  <cp:lastModifiedBy>Perquimans High School</cp:lastModifiedBy>
  <dcterms:modified xsi:type="dcterms:W3CDTF">2010-01-28T19:33:17Z</dcterms:modified>
  <cp:revision>7</cp:revision>
  <dc:subject/>
  <dc:title>Bacteria &amp; Viruses</dc:title>
</cp:coreProperties>
</file>